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BAD-2C92-421E-9E0E-2517F976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F72-A8C0-4A05-B147-BF603DF8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C2B-F71F-4345-AFA5-EE68F928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A7E-F744-4259-BCED-B4BC951F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5E9-CD54-47F0-8039-205198A6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990-EFC3-4C88-8C2A-CD214043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7BB-EA8F-47DD-A1BB-0C533F1C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531-2566-497D-B74C-22E43248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ED9-38E8-4C0F-9B6B-0197D550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C60-28AB-4664-9BE5-CA8CFC29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94B-1146-48C9-9A88-F92C550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B4E-00D8-451A-A453-E4C8CBBA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CC04-4305-4E67-975B-595453FFE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ian Genetics Pa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14-06-Testcross-L.gif"/>
          <p:cNvPicPr/>
          <p:nvPr/>
        </p:nvPicPr>
        <p:blipFill>
          <a:blip r:embed="rId1"/>
          <a:stretch/>
        </p:blipFill>
        <p:spPr>
          <a:xfrm>
            <a:off x="4202280" y="1219320"/>
            <a:ext cx="4551120" cy="5029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666880" y="380880"/>
            <a:ext cx="323856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ST CRO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39800"/>
            <a:ext cx="444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determine gen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do a test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lways cross an unkn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 with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zygous rece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vs. Nu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are determined by genes and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es provide the plan for development, how it unfolds depends o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oss involving 2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Independent Assortment: Genes for different traits can segregate independently during the formation of game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Assortment accounts for the many variations in org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14-07-DihybridCross-L.gif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71800" y="152280"/>
            <a:ext cx="321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ihybrid Cros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Mendel’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passed from parent to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orms of alleles are dominant and some are reces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receives 2 copies of each gene, these genes separate when gametes are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 for different traits segregate independ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Dominance: the heterozygous is an intermediate between the two homozygous. Ex. Red and white makes p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14-09-IncompletDominance-L.gif"/>
          <p:cNvPicPr/>
          <p:nvPr/>
        </p:nvPicPr>
        <p:blipFill>
          <a:blip r:embed="rId2"/>
          <a:stretch/>
        </p:blipFill>
        <p:spPr>
          <a:xfrm>
            <a:off x="4648320" y="160020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ominance: The two homozygous traits are expressed equally in the heterozgyous. Ex. Black and white chickens the heterozygous have both black and white fea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Alleles: genes with more than 2 alleles. Ex. Bloo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14-10-ABOAlleles-L.gif"/>
          <p:cNvPicPr/>
          <p:nvPr/>
        </p:nvPicPr>
        <p:blipFill>
          <a:blip r:embed="rId2"/>
          <a:stretch/>
        </p:blipFill>
        <p:spPr>
          <a:xfrm>
            <a:off x="4343400" y="1600200"/>
            <a:ext cx="4648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enic Traits: Traits are controlled by two or more genes. Ex. Sk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14-12-PolygenicInherit-L.gif"/>
          <p:cNvPicPr/>
          <p:nvPr/>
        </p:nvPicPr>
        <p:blipFill>
          <a:blip r:embed="rId2"/>
          <a:stretch/>
        </p:blipFill>
        <p:spPr>
          <a:xfrm>
            <a:off x="4648320" y="1600200"/>
            <a:ext cx="3905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-Linked Inheritance: genes that are normally found on the X-chromos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y are more common in 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Colorblindness, hemophilia, duchenne Muscular Dystr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15-03-SexLinkedInherit-L.gif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7:01:54Z</dcterms:created>
  <dc:creator>Perquimans County Schools</dc:creator>
  <dc:description/>
  <dc:language>en-US</dc:language>
  <cp:lastModifiedBy>Perquimans High School</cp:lastModifiedBy>
  <dcterms:modified xsi:type="dcterms:W3CDTF">2008-11-04T14:31:53Z</dcterms:modified>
  <cp:revision>3</cp:revision>
  <dc:subject/>
  <dc:title>Mendelian Genetics Part II</dc:title>
</cp:coreProperties>
</file>